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1BCA-AC2E-4ABB-8D15-39A9E00F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D2C8-0FD0-46FE-A61C-E4D58DA0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B1FF1-CC92-4382-A946-B29001AE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B0B7A9-7B20-4DC4-AE56-A5C43B8E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25026-ED42-4C02-BB34-9DA6D814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33BAD0-E4B8-45B7-BCAF-0A4B5C77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3F043-82B2-4983-80D8-71C76E61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116B3-951A-46E8-8EA4-71AEF569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89C6A4-A5F7-4BEF-8ECB-277A24BF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2C4F0-83EB-4486-ADCE-F4338370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D1998-7BA6-487A-96E5-818EBF3C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86E165-5B35-44EF-B93E-01411DEF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9934-3C3F-45E0-A92F-CE5CE88F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BD094-780E-4200-88BE-B3E3FCB0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42E7F-3000-4A0B-8408-FF0062FA1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833FD-2FCF-4C39-8848-70490FA5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D0744-51D7-497F-A15B-FFBC1406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548A8-A47B-4F98-8346-EB9A0D60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4DA6D2-D471-4644-B7DE-E9C3094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95776-1642-4054-9577-268A7F9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A0B9A-42DE-4268-A0FE-526538ED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A945A-F1BC-4807-B695-BFB2AB69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98309-395A-46E1-B5B3-EE938ED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9C0D-2D3E-4F24-A7BB-4957E9F8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D09A5-DC26-49A0-9B9E-D1BF5E94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BC183-2F1E-4619-9B18-665CC1578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8A38C-1D50-4F2B-AD7F-D7967A4F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BCC92-4092-40FB-BEAA-9265B8BBA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8CFB7-4FDD-4762-B747-33BFF540E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ADE73-4B11-4344-9C6B-399A513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3CDC8-D44B-4320-AB65-20E855B3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FBDAA-7D83-4F88-AF16-7A2CC2C8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882AB-5AFA-477F-AF76-C57D724A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93B56-7B46-4553-80FF-151E45B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97DD-ECED-4502-A222-1EC07B2E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178C0-7FB3-435A-B010-81DA93C3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C6638-5C4B-4C5D-90CE-3ED3393FF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5F0D5-6A12-41A6-B3ED-CE8EC9A9C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994C6-21FD-427A-9E6B-6F8A113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560C0-4EA8-445A-BB7B-9119F0C7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03B577-5552-45EF-AF67-5C698A1A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DDFAC-C57F-444B-ACE7-6CA9E0E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44C2B-204B-4DC1-95AC-0CA3732F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956E02-0849-45B4-9575-3257D70A4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ED355-C2D7-47C3-8775-6CE0497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E89C-9437-443E-B382-F54CC16D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39A02-DDE3-4D70-9936-A1E576B5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1C3A4-8420-4D45-8245-A2C1E85E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7BA23-F9AC-4CA8-A811-0826D278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7974A-7CEB-432D-8562-647D7E10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9C96C0-BA0F-49B8-8156-9B5E2D90F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1ED9D-DA15-4856-9C71-9A9E40BC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6F8929-F097-4C3F-8231-2FD0A3F0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58ECC7-2CE5-4A86-9361-A57C45AC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B8AFD-9117-4D54-90B5-AA7D6B8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FDFD09-6014-477E-890A-8BA45962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FCE80-2972-4380-8DAB-7F3C235F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C10D7-7B8F-40ED-839D-D36AFFB0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8B18B-B733-4BF4-A11F-262DF190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39CEF0-53A0-491C-9C13-19C2BA45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D0E2C-B5FA-4468-B8C7-2A716D43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44E3AE-8887-4D3B-B8B6-4852A94B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66DE6-105C-44BB-BA2E-B346D2C5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2807A-B685-48F3-8BA0-AC060739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2BB1C-5151-4CF1-84EC-60DF1024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CEBA8-C7FE-4992-AAA7-9E8D2FF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8EDC36-A337-4BA6-BC92-FE6442CE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690A-BBE9-453B-99E1-D27A2B43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D0DB2A-76B0-415D-BE02-DB479AF8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47C06F-A141-4E00-8339-49955C76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A09CB-8B31-4CE7-A49C-23C45D12B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50D98-5AE8-4CE0-8495-F8494F5A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F0DD9-28BD-4DF0-A9D6-E4A4890F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024C7A-E05C-405C-9F37-CB143D95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42656D-9B1A-497A-AF9D-6B0E474E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2DA7E7-7816-4358-9BAF-EADEBF87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A1A90C-01E3-4576-B213-5D24547C2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A1563-4AB1-42FC-8C20-2B19DCCD6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16BA-D8EA-449E-A041-D3E9CF82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5106FB-0F4B-43AB-AD06-6A6DF25F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83D87-66AF-4AB9-9A99-97C8C327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21DC05-1451-4FBC-A723-BFD1F702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07AE5-1CF1-4D84-B6BC-7FD78E51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3069F8-3A95-45CA-B3DD-CE291E5B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B450B-FBBA-498E-A758-037A9BE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B99239-2B23-4765-9A83-958081F0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096D7-3D14-478E-9165-97C57C96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D66B26-5A20-4325-8A00-1A12D6E8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46501B-D437-4AE5-B740-37F0067D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F8302-95B6-4957-BBBE-88838F56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FD461-C874-4B31-B002-973D6B0B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3917BE-44E2-4DD8-A502-60E6D088E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EA97B-48FE-4657-8AB7-B0DC6C42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55782-F02A-4B61-A77E-68928EE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C29491-8A81-40C6-922E-9594A422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386E3-488E-4AD7-826A-D89FE914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8ADC7-E1F0-4B2E-9B62-EA96E29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3ACD2-D6D8-4A33-88E2-8E127DB9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2491B-C70F-462E-A59A-6D85742C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C897D2-86D0-48A9-9FFE-0FB6A464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60B-A10A-4588-A12F-6003612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C740A-F83B-4C3D-AD3F-61469E9D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7AD377-3E83-4907-B7B1-596B2992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F7143B-7E72-43B7-97CB-71998919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E86A3-594F-454A-AEE9-3EBA1280A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94CD1-0365-473E-A270-5E81A3DF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E89C74-CD18-486C-BEC9-F3F2FC41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37E7C-104F-4208-A868-99AA28B9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798299-1CF0-480D-9D5B-FACDE5D3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C646B8-FD63-4B15-A14A-5DF7DB0D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EBA2F-4F22-4C83-A0BB-D28FA87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2C18-BEA6-4B36-8DF3-FF7BA73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CD4D-3B97-4D52-999D-11CDE6A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7F31F-F6DD-4F33-BDFC-07C4ECE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0653ED-EB5E-4BB3-9E8A-A69A8618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EEA261-7694-4B72-ACF9-646452C9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D12284-074B-4F74-B585-5023237D8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B891D3-1B02-4A54-9AC8-E9EC1B10A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6BE910-F105-437B-9E5B-44A41E52D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BF10D4-8F32-4F26-8E34-3D367B9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4B611B-6B2F-421D-887A-1DC3804C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5044C-1E40-40D3-9A15-07FB9F67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B95ECB-3715-4C4D-81EF-39E1B0B26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7CC9-BB25-4962-9984-2CB60F6D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C0873C-DDCA-4162-91A5-8EA9CB56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A48977-8BA7-43D6-8F9C-52F89DC6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AC74F4-63CC-4197-89C3-28917CE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1DC2D0-74A7-4DD8-A59B-EE1050EB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431FE7-3EE4-4F7B-9952-BB9AFC12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CC8AD-7C05-490C-B85F-0038B3449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13BCD6-C3A0-43A1-810F-49E93C2B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92D1CA-4EF1-4CB7-920E-54527CC2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DC1F34-836B-407E-81E7-20CDA46D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FA47BE-53A9-44A2-8195-7BEF3DD8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7420-E17D-4CA4-90CF-C4B39226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43FAE-D6BD-4C2D-91FA-432E76C8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74EE2-F351-48D2-A165-7A4C692D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EFF86F-07BD-4B6C-A8AA-871EE451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BA228D-9A4F-43E4-B192-974E65DC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C9F298-0346-4478-A47E-E701A8C5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2722B-F715-4817-B5B7-6D705C1C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860E3-9AA8-4032-9EBD-D0EC3CC8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7D729-896F-434C-8BC3-0C7E95F8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D303C0-6266-4B1E-8DD4-7F2620E3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DD3CCE-E38E-4FE6-B333-8A164AD0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DDCC-D62F-422A-9E79-F729FEB6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2D7E7-A11F-4A7D-9774-48273BB6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63B38-17B4-48D6-BB9E-61E99CC5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B426A2-FBD0-4A1B-88DD-39FDBD6C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8C9D5E-D713-4176-AA63-24E7558D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AC5FB6-156C-4663-8999-EBB5F9AB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80106-6336-404D-8013-FF07E3F5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9BAA05-E9B8-4EAE-A8F4-2562ECC2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8D5250-135A-4F13-A81A-E0164F7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C1154-17EA-4038-B503-65FD5474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11DC39-FFBC-457F-BAF0-785AE7F54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024F9-C84F-49CC-8B2D-115DFF56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4DD49C-683A-413B-B878-536506F83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B03B06-64CC-469A-8BB9-0D7CB363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7F8B73-648A-4EB7-BB9D-45A56BAF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36BC7-EC74-4531-86C3-0EE5ABD3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60A73-E0D3-4D07-BF81-EDEEC2C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170DDA-AB21-4C87-BE84-43619A4B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33C285-0AA0-4B1B-A7BB-AF53F6C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EE999E-5D58-4B5A-852E-F8C5A112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ABB5EF-028E-48BD-AD7B-A730284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103E99-BDD6-419F-A526-0ABF05515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22EF-F03B-4309-98B7-1ED8ED694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E9DE9-527F-4A8D-B4E8-21C638B3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DAF67-E678-42F3-8251-F0C062AB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D0B729-504E-40FF-9DB6-98C619D28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529066-A737-41E8-9A00-62730BD1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2D776E-B618-4EE1-A0F2-23FFCA4B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F11F8C-F7DD-4E2D-8EF0-8C3FB81A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09A0FD-ACD3-486B-9DDE-4CD90416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68CE98-9FDA-491F-99FE-7B4829E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9355A4-2CD0-4C65-8343-61BA146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0E2CDC-3C43-4B62-9816-84FA2FC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EE10-E57E-4BB8-807F-A0654DA3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35EFB1-AEC4-4BA7-8F9B-7A47C414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8236B5-2740-4B3F-B35C-9F1A020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E5AB00-6DE2-4830-8513-E25E5740B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3AD660-8A87-4852-B4BA-B7353412A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A69E9-289F-4B1C-9E4E-CA54AF42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A1C07B-EA93-46C6-847A-091E8A8F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E7E8D2-62AF-4570-AC40-AD85A358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63A460-99D8-4100-AF12-3C38E0543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FAFF4D-06B7-4B31-B7CC-AA58C891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807B78-4929-45E8-8012-04649D53B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C367A-F614-485E-9358-CD29745F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57C79-437D-441D-86F8-C61B37D8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4AABD3-7C2C-4B1F-BF82-5B71F92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142A2C-609F-4657-961D-3BE64A21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1E97C0-62A5-4CAB-BCB1-5205FA37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2DC4C4-2BEE-4EF9-96A8-4E72D904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A2B77D-F629-4A07-9725-A0F4028F5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6FB178-1830-44FE-8388-015146489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A550F-F5B5-4FB6-8E29-67CE6D31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F7042-5817-41F9-AF09-A3683905A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8BB-9F8C-41C5-BB41-E1091CBF8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BAF7-EBFD-4546-BDEE-F8F7C168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4EABA-F3F7-4B26-BBA2-19571A90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BA68B-6F68-43C7-AE7F-C58C81D7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13437-ED94-4553-9CB0-B6B4D40F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FB83-5BA0-4034-AE59-E1DBD092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07D28-2A3C-4D3F-A886-E5F056A3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43CC-FD63-4940-9CB7-5C914B7E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26E6D-35C0-47ED-80C0-D1EDC28B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36C47-B5F7-40F6-9F7A-F6341F6C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94801-5343-44AD-B0A0-E4F979706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D1E-69F8-42FA-BEBC-9B43757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CEEB5-6280-4302-97A1-499A971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A5B96-2EDB-4F57-836D-5464A69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2D87-1284-462E-BEE4-A1D1543D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FC886-2F5B-4DA6-BED9-9413F942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B20F-B601-4692-A48D-EE9C0237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BE60A-615F-4EF3-8F2C-B609EF5A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0DDDB-67C6-4988-AAA7-8DFD2588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1AC7D-39A7-4736-AFA9-9B7151F32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4BCCB-192B-4DEB-A79B-E2733917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81FD4-C2E3-4BEA-AE7D-B3F3797BD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522-E3B2-4958-980B-6473197A3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620F8-4773-4ED8-8FC0-6590F5D4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CDA7B-A765-4EFA-838C-215DC644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4F1F1-F63C-4415-816C-E814D05D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4152-6CD4-49F0-A923-ED0460D0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E39EF-9F7D-4C59-96A0-DA9E401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B7F48-5151-4DCC-AEA9-E00EE37E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EE93A-47CB-42C9-B048-C9A4ABF8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599C6-6E92-4972-B268-340BDE8C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93208-1502-4B2C-B45B-42984E20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0AE09-3888-48DC-BBB1-DD16FFC1F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2C4A-2C37-43B5-A1E3-B27CC4B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AF180-E9AC-4A37-BC78-5354A612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E56E0-8B20-4F1B-861B-F63536C0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959E-960C-4EA0-ADC6-F10C2FAF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4336C-3523-42F2-B826-356E1EE5C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5C239-048F-45B2-B03C-152BE315D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60166-9494-44F9-8528-558F31F2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78452-6A6C-4597-919A-3C26DE00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12E30-5B22-4FCC-A378-CE943CD4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CDACF-8FB9-44F0-8E6F-D1928397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3C79A-2116-4FBD-AB60-2CE1E84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B13-A27E-4F22-A8B7-A03E5467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715B6-19D8-43BB-88D1-F781DEDA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C005D-54B7-4BB0-8AF0-E0DE9EC1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0AFAE0-C4AA-4496-A764-884140A6A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32DBA-E033-40FB-94D9-9A6A27AB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213CC4-7F46-48C9-82C5-8C2F952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C57CC-8658-47C4-907E-2E8FCCDA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5FCF-91F7-4275-88AF-E621D544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714F-B2BC-40BF-B476-5A7EC44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EA33-9A54-435B-B5B4-FF149837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B13F2-1A9A-4D8B-8453-A78DF13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4FF-1EC6-4175-B5DD-B125E4D6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0721-3CCE-42CA-A0D0-8B402D7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44CC8-717F-4166-9023-2B4D25FD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9C41F-5610-46CF-AA50-487367E2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206EB-89BE-4359-9B50-ED4550797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58937-49B0-4514-B02A-ED6FC9961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7E1389-F15E-4FF8-B65B-84E81816C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B3F05-6B90-40A2-8674-00C0E3FC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BE130-7B26-4B88-B485-E10C0ADB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B3F93-069D-4181-8406-DC9E6119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CE35E-2E7B-4899-ACB4-2386E7E8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8D8C-5827-4854-A0DA-5EC82EA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07770-149A-4FBF-A509-6CF4EC5E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A8386F-8A4F-4549-9AD5-08C232C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DFA306-3998-460A-BAF7-10BBBF89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DABA84-6B34-4617-B8F1-7AFAEB93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F7438-7A9D-4642-A967-EB441256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E5B58-643B-48A5-B98E-18A42530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0C7C1-A9C7-43C3-B0EF-DA5713DB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358F3-9635-46FE-A283-8CA11A496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445FB-FBCC-4C34-BBFB-DF3C01B4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6A18F-1C5D-4447-8E8F-D6A2055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CFAA-20D8-4B41-8C37-C93617BFAC7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0126-329A-4460-9A6C-6849289CA0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5842-072A-4A62-9201-0456BC25E5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20E0-B106-405D-9927-4A9DBB8D0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2023-8159-4DAD-AA0C-E97AC94CC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31AE3-323F-4828-96E9-7574125F5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0814-968B-4914-8DAA-A1174DF4DB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5D4-C605-4D8A-A03F-0F706C39C5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C10FD-6CAD-4163-AB77-E379CE172B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B32E-1A93-42EF-A7B8-F189338E4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1420-46A0-4B84-AB98-4D23A9D3A9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2FB3-7F7A-4545-942D-68B37A2EF8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F232-FDF2-4C51-B09A-6A7986A34B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29BC-F930-4551-B22D-940189E7A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0396-4FCC-4C16-85B3-800430551ED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4A5C-53EF-4AD3-91EF-CCE74B9368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3EA1-1EA9-493D-B252-17F205841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0D5-E9E9-4348-9FA5-1A18F511CF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E0B1-6476-4F2B-9D80-D5E96E285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AB84-1375-4121-A36C-0A284C93B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2321-A834-4E90-835B-D508034B48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2BC2-FB32-4C38-9442-F9624F971DF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56F5-7CB2-4973-B31A-3FF2421315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3D96-13A3-4803-ADB5-55766EC616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EF7-B6BB-42EA-A07F-DC94C5B998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0436-3655-416A-8384-7002F9FB5D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E2A6-82E3-46AB-B9C5-2C85E0B4E3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11C2-2444-4B64-84CB-07ED2E70A7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3FC4-7481-42B7-B2F1-2FCEE95F6B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35A53-E29A-4C85-BC17-062B36D3B0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9E5B-5F44-4A26-9A2A-DF8CC693CE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62580-7695-425B-AE28-DA27E0815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F11B-B214-4E38-9D2E-0454ECA64E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850-7F5B-400D-A7C3-A03B194A45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C530-6A6C-4029-8D4A-B6E8A0AAC2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D5CD-27F9-41A5-B57E-569A147C3D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D0E3-AF4B-4E30-9FB0-0CAF370C13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FF37-D05E-472F-9F1D-99444F9F41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DB1C-D0C1-4FE0-BE02-5AF3A5A184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6111-04E0-4A9D-9F05-27FD9613D8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4350-ED6F-4BC7-BB20-DC4A303A44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609A-269E-4C0C-9266-8C35CE866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328920" y="1593720"/>
            <a:ext cx="2486160" cy="971640"/>
          </a:xfrm>
          <a:prstGeom prst="rect">
            <a:avLst/>
          </a:prstGeom>
          <a:ln w="0">
            <a:noFill/>
          </a:ln>
        </p:spPr>
      </p:pic>
      <p:pic>
        <p:nvPicPr>
          <p:cNvPr id="1006" name="图片 2" descr=""/>
          <p:cNvPicPr/>
          <p:nvPr/>
        </p:nvPicPr>
        <p:blipFill>
          <a:blip r:embed="rId2"/>
          <a:stretch/>
        </p:blipFill>
        <p:spPr>
          <a:xfrm>
            <a:off x="324000" y="3562200"/>
            <a:ext cx="84978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1120" y="1335240"/>
            <a:ext cx="7781760" cy="224784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2" descr=""/>
          <p:cNvPicPr/>
          <p:nvPr/>
        </p:nvPicPr>
        <p:blipFill>
          <a:blip r:embed="rId2"/>
          <a:stretch/>
        </p:blipFill>
        <p:spPr>
          <a:xfrm>
            <a:off x="41400" y="3768840"/>
            <a:ext cx="9061200" cy="20635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3"/>
          <a:stretch/>
        </p:blipFill>
        <p:spPr>
          <a:xfrm>
            <a:off x="4456080" y="1916280"/>
            <a:ext cx="692280" cy="4474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4"/>
          <a:stretch/>
        </p:blipFill>
        <p:spPr>
          <a:xfrm>
            <a:off x="4327560" y="2565360"/>
            <a:ext cx="692280" cy="44784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5"/>
          <a:stretch/>
        </p:blipFill>
        <p:spPr>
          <a:xfrm>
            <a:off x="7740720" y="1974960"/>
            <a:ext cx="691920" cy="44748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7"/>
          <a:stretch/>
        </p:blipFill>
        <p:spPr>
          <a:xfrm>
            <a:off x="1763640" y="42354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8"/>
          <a:stretch/>
        </p:blipFill>
        <p:spPr>
          <a:xfrm>
            <a:off x="176364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9"/>
          <a:stretch/>
        </p:blipFill>
        <p:spPr>
          <a:xfrm>
            <a:off x="450072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0"/>
          <a:stretch/>
        </p:blipFill>
        <p:spPr>
          <a:xfrm>
            <a:off x="4859280" y="48690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11"/>
          <a:stretch/>
        </p:blipFill>
        <p:spPr>
          <a:xfrm>
            <a:off x="7667640" y="4292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2"/>
          <a:stretch/>
        </p:blipFill>
        <p:spPr>
          <a:xfrm>
            <a:off x="7667640" y="4869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257040" y="1533600"/>
            <a:ext cx="8629920" cy="379080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4673520" y="263700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4873680" y="361620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7020000" y="358776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1187280" y="4581360"/>
            <a:ext cx="1151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2" name="图片 1" descr=""/>
          <p:cNvPicPr/>
          <p:nvPr/>
        </p:nvPicPr>
        <p:blipFill>
          <a:blip r:embed="rId1"/>
          <a:stretch/>
        </p:blipFill>
        <p:spPr>
          <a:xfrm>
            <a:off x="557280" y="1562040"/>
            <a:ext cx="8029440" cy="373392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2"/>
          <a:stretch/>
        </p:blipFill>
        <p:spPr>
          <a:xfrm>
            <a:off x="6516720" y="1671480"/>
            <a:ext cx="115092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3"/>
          <a:stretch/>
        </p:blipFill>
        <p:spPr>
          <a:xfrm>
            <a:off x="7970760" y="173052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4"/>
          <a:stretch/>
        </p:blipFill>
        <p:spPr>
          <a:xfrm>
            <a:off x="826920" y="2651040"/>
            <a:ext cx="115128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5"/>
          <a:stretch/>
        </p:blipFill>
        <p:spPr>
          <a:xfrm>
            <a:off x="2959200" y="2679840"/>
            <a:ext cx="11509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6"/>
          <a:stretch/>
        </p:blipFill>
        <p:spPr>
          <a:xfrm>
            <a:off x="3247920" y="36878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7"/>
          <a:stretch/>
        </p:blipFill>
        <p:spPr>
          <a:xfrm>
            <a:off x="5435640" y="367344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8"/>
          <a:stretch/>
        </p:blipFill>
        <p:spPr>
          <a:xfrm>
            <a:off x="2036880" y="4149720"/>
            <a:ext cx="1008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343080" y="1471680"/>
            <a:ext cx="8458200" cy="39146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2"/>
          <a:stretch/>
        </p:blipFill>
        <p:spPr>
          <a:xfrm>
            <a:off x="1187280" y="3156120"/>
            <a:ext cx="39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3"/>
          <a:stretch/>
        </p:blipFill>
        <p:spPr>
          <a:xfrm>
            <a:off x="1187280" y="386064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5"/>
          <a:stretch/>
        </p:blipFill>
        <p:spPr>
          <a:xfrm>
            <a:off x="5435640" y="314172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6"/>
          <a:stretch/>
        </p:blipFill>
        <p:spPr>
          <a:xfrm>
            <a:off x="5435640" y="3846600"/>
            <a:ext cx="3457440" cy="4474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7"/>
          <a:stretch/>
        </p:blipFill>
        <p:spPr>
          <a:xfrm>
            <a:off x="5435640" y="4567320"/>
            <a:ext cx="3457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723960" y="1843200"/>
            <a:ext cx="7696080" cy="31716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826920" y="270828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37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297400" y="270828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5297400" y="3429000"/>
            <a:ext cx="330696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5370480" y="4149720"/>
            <a:ext cx="33069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638280" y="1428840"/>
            <a:ext cx="7867440" cy="40003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826920" y="378936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755640" y="450864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5076720" y="2421000"/>
            <a:ext cx="381636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7"/>
          <a:stretch/>
        </p:blipFill>
        <p:spPr>
          <a:xfrm>
            <a:off x="5076720" y="3068640"/>
            <a:ext cx="3816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8"/>
          <a:stretch/>
        </p:blipFill>
        <p:spPr>
          <a:xfrm>
            <a:off x="5003640" y="3789360"/>
            <a:ext cx="3816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257040" y="190440"/>
            <a:ext cx="8629920" cy="6477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4859280" y="155736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4859280" y="213372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4932360" y="276696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4859280" y="32846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4932360" y="388944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1735200" y="6149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4902120" y="44226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4975200" y="5056200"/>
            <a:ext cx="396072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4902120" y="5573880"/>
            <a:ext cx="396072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4975200" y="6178680"/>
            <a:ext cx="3960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图片 1" descr=""/>
          <p:cNvPicPr/>
          <p:nvPr/>
        </p:nvPicPr>
        <p:blipFill>
          <a:blip r:embed="rId1"/>
          <a:stretch/>
        </p:blipFill>
        <p:spPr>
          <a:xfrm>
            <a:off x="171360" y="57240"/>
            <a:ext cx="8801280" cy="6743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3"/>
          <a:stretch/>
        </p:blipFill>
        <p:spPr>
          <a:xfrm>
            <a:off x="971640" y="4508640"/>
            <a:ext cx="403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4"/>
          <a:stretch/>
        </p:blipFill>
        <p:spPr>
          <a:xfrm>
            <a:off x="971640" y="5084640"/>
            <a:ext cx="4032000" cy="44784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5"/>
          <a:stretch/>
        </p:blipFill>
        <p:spPr>
          <a:xfrm>
            <a:off x="826920" y="5661000"/>
            <a:ext cx="79930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1109520" y="433440"/>
            <a:ext cx="6924960" cy="636264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1763640" y="1757520"/>
            <a:ext cx="6553440" cy="4474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1763640" y="2290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1692360" y="292428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1692360" y="342900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1778040" y="4579920"/>
            <a:ext cx="6553080" cy="44784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1778040" y="5113440"/>
            <a:ext cx="65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1706400" y="5746680"/>
            <a:ext cx="6553440" cy="4478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9"/>
          <a:stretch/>
        </p:blipFill>
        <p:spPr>
          <a:xfrm>
            <a:off x="1706400" y="6251400"/>
            <a:ext cx="6553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0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40:3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